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9B0B2-7AC4-41A3-AC1F-CC0C9E2FF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E1908-9EB3-4C42-869A-43856A13D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6586C-1D1B-430D-8E97-BC1934225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7FA66-FEFE-4010-AA8E-88D6BE2F6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1FDFA-B7A9-4AE6-9917-73898A597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29260-4188-41DB-8E6C-C7FB0E070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4AE57-F996-45CB-965D-0EEDF6404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D3639-C346-487B-9748-345171DD9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7CF34-FE07-48E8-BB01-8E054CAFA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2DFA5-495D-4E5C-9829-BA4627614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A92E1-3DC0-48BC-B96A-23AF13490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96FFB-FDA8-4C46-96C8-503B10816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DF323-B00D-4364-B08A-421C1DEAFF9A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00"/>
                </a:solidFill>
                <a:latin typeface="Times New Roman"/>
              </a:rPr>
              <a:t>CnPack IDE Wizards</a:t>
            </a:r>
            <a:endParaRPr b="0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5640" y="3886200"/>
            <a:ext cx="7561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——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CnPack Administrator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Zhou Jingyu, Liu Xia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2007.09.1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Wizards Internal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Mini Framework with Wizards Management and Registration Mechanis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capsulation to Open Tools API and IDE Servi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ynamic Enabled/Disabled for Separate Featu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ified Base Classes and Debugging Output Interfa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ynamic Switching Support of Multi-Language U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bout 100 thousand Lines of Source Co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Team Structur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y Responsibility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ject Administrator, CVS Inspect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veloper, Tester, Document Wri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mmunication Administrator: Mailing List, BBS, QQ Grou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y Level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dministrator: Project Manager and Team Manag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IP Member: Main Developer and Tes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mmon Member: Code Donator, Document Writer and Tes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Project Management Tool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evelopment Platform: Redsag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Mirrors: Cosoft, SourceFor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Version Control: CV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Task Management and Bug-Track Tool: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Web-based CVSTra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Nightly-Build: wa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VSTrac Ticket (Chinese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826920" y="1413000"/>
            <a:ext cx="7561440" cy="50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VSTrac Timeline (Chinese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826920" y="1413000"/>
            <a:ext cx="7561440" cy="50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’s Futur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Product: CnPack IDE Wizard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Improve Pascal Script, Provide More Func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Support to C++Builder 200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New Features and Bug-Fix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Plan for .NET or Java IDE (Eclipse) Plug-in 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ommunity Building: CnPack Community for Communications of Users and Develop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Team Build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Wizards Dem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mo Version: CnWizards 0.8.2 R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scal Script Sup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ustomization Build (DIY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mo Environment.: Borland Delphi 7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mo Content: Code Input Helper,  Designer/Editor Toolbar, Unit/Form List, Multi-Language,  Wizards Settings, Pascal Script, Source Statistics, Customization Buil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ank You!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371600" y="3500280"/>
            <a:ext cx="6400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Q &amp; A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http://www.cnpack.or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master@cnpack.or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About CnPack Tea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Team was Established in 2001 from Delphibbs.co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Objective: Develop the Tools, Packages and Plug-in Set based on Delphi/C++Build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Members: Now About 24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Products: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Wizards,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Component Package, CVSTrac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nitiator : Zhou Jingy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Administrator: Zhou Jingyu, Liu Xia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About CnPack IDE Wizard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What is CnPack IDE Wizard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Wizards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is a Free, Open-Source Plug-in Tools Set Used in Delphi / C++ Builder / BDS to Improve our Development Efficienc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The First version of CnPack IDE Wizards is Published in 200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About CnPack IDE Wizard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Who can Use CnPack IDE Wizard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Wizards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is Designed to Face the Programmers who Use Delphi 5 6 7 8 2007, C++Builder 5 6 or BDS 2005 200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The Official Version of CnPack IDE Wizards Includes 3 Languages: Simplified Chinese, Traditional Chinese and Englis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Wizards Introduc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urrent Version of CnPack IDE Wizards: 0.8.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Zhou Jingyu,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the Initiator, Administrator, Main Designer and Author of CnPack IDE Wizards is Elected as an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Borland Expert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n 200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Users Cover Home and Aboard. CnPack IDE Users are More than 4300 by Upgrade-checking Statistic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Wizards User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971640" y="1413000"/>
            <a:ext cx="7056360" cy="48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ackground of CnPack IDE Wizard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orland Delphi/C++Builder are Famous RAD Development Too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orland Provides Open Tools API in IDE as an Open Plug-in Architectu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There’re Similar Foreign Tools, such as GExperts, CodeRush, Castalia, ModelMak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NO Free Wizards with Chinese UI/Sty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So, We Develop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Wizar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Wizards Licens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t’s “CnPack IDE Wizards License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erived from the Official Open Source Defini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NO Commercial Usage of CnPack IDE Wizards Source Code without CnPack Team's Formal Authoriz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This License should be Attach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NO Express or Implied Warranti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Accept NO Liability for any Result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haracteristic of CnPack IDE Wizard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 UI Languages for Users at Home and Abroa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werful and Creative. Some Features, such as Input Helper, are Original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me Chinese-Style Features Make up of Similar Foreign Products for Chinese Us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me Components, Libraries and Debugging Tools are Attached for Develop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ree, Open Source. Open Architecture for Customization Develop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6T12:57:51Z</dcterms:created>
  <dc:creator>Liu Xiao</dc:creator>
  <dc:description>2001－2007 CnPack Team</dc:description>
  <dc:language>en-US</dc:language>
  <cp:lastModifiedBy>Passion</cp:lastModifiedBy>
  <dcterms:modified xsi:type="dcterms:W3CDTF">2007-07-11T12:53:42Z</dcterms:modified>
  <cp:revision>43</cp:revision>
  <dc:subject/>
  <dc:title>CnPack IDE Wizards Presentation</dc:title>
</cp:coreProperties>
</file>